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3E93-FE29-403E-8F20-FBAB624E2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about the effect of lack of nutrients to energy of mom and what the baby recie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F7EE-2E7E-4A72-BE98-5906EBF60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’s ability to do activities and breathlessness and lack to ba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4388-9AAD-45F9-A0FD-C593A3FE7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lling, drop stuff, injury to self and ba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386E-5A64-4F8E-BBE1-C9A4787A9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attack risk, fatigue, decreased blood to ba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DA34-D441-4AD1-B1C8-83A47913A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sort of effects as tobacc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3F22-2019-4879-8A44-78B35CB43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34D-80C0-42C0-9D44-B272D31F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0AF-AAAD-4F64-BC31-6F5B9DCD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753-74D8-4D92-8943-479B70F8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6F2-B88C-4F07-A66B-8E1F03E7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670-849C-4924-A0C1-5B46B1DA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737B-B8D9-4EEF-A1AF-E046AFEE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DC38-A519-470E-AE69-43E9F8FD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148-D02A-4B3A-B9E8-CB37C102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A5A-4826-4574-B692-901ED39E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8CA2-5F2A-4F80-B3F7-0F0F12BC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185B-9943-4BA4-87C4-41CF2CB7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F88-B8BA-4E7B-8B2C-EBA541D1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B0F7-940A-47FD-BD64-1AB73DB53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ernal Effects of tobac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24379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"/>
              </a:rPr>
              <a:t>Decreases Nutr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smoking mom.jpg"/>
          <p:cNvPicPr/>
          <p:nvPr/>
        </p:nvPicPr>
        <p:blipFill>
          <a:blip r:embed="rId1"/>
          <a:stretch/>
        </p:blipFill>
        <p:spPr>
          <a:xfrm>
            <a:off x="2971800" y="33526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952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"/>
              </a:rPr>
              <a:t>Inability to absorb oxy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ernal Effects of Mariju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2819520"/>
            <a:ext cx="5486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"/>
              </a:rPr>
              <a:t>Lack of coordin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farm3.static.flickr.com/2500/3996629832_70a57d45ba.jpg"/>
          <p:cNvPicPr/>
          <p:nvPr/>
        </p:nvPicPr>
        <p:blipFill>
          <a:blip r:embed="rId1"/>
          <a:stretch/>
        </p:blipFill>
        <p:spPr>
          <a:xfrm>
            <a:off x="5715000" y="1752480"/>
            <a:ext cx="29052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iju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1932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"/>
              </a:rPr>
              <a:t>Increased Heart Rate/decreased 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iju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"/>
              </a:rPr>
              <a:t>Decreased oxy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03:29:14Z</dcterms:created>
  <dc:creator>Anna Lutz</dc:creator>
  <dc:description/>
  <dc:language>en-US</dc:language>
  <cp:lastModifiedBy>Anna Lutz</cp:lastModifiedBy>
  <dcterms:modified xsi:type="dcterms:W3CDTF">2010-04-13T02:53:46Z</dcterms:modified>
  <cp:revision>6</cp:revision>
  <dc:subject/>
  <dc:title>Maternal Effects of tobacco</dc:title>
</cp:coreProperties>
</file>